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6B5-8973-4630-A1A4-A3B29FD8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D18-E1D5-4A67-8EAC-44377761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E23-1901-493F-A570-457788CF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11A-A9DD-4275-9E68-5BE7EB5F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994-BB5A-4674-A51D-8C1CCB8B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998-AAC6-4B9C-99F8-02C6A8D3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89C-7398-4106-ABFC-53836CE2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830-66BF-4D15-B892-3B0FB700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BA3-B19E-4D17-B942-A86086AD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7F6-DFBA-4906-840E-329F9A9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CC2-5B7E-47FC-8BBE-977B476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4A8-8C2D-4686-9DF5-9E408456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067A-9A5C-4EC1-85FB-57F15164A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Fitting straight lines to bivariate date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Fitting a straight line by ey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a set of bivariate data, we may wish to determine whether a linear relationship exists between the two variabl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ually a single straight line will not go through all the points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o fit a straight line by eye, draw a line so that there are equal numbers of points above and below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Finding the equation of the lin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nce you have drawn the line, you may be asked to determine the equation of the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hoose two points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Cambria Math"/>
              </a:rPr>
              <a:t>on the line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d determine their coordinate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,                        , and find c from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                    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 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7" name="Object 2"/>
          <p:cNvGraphicFramePr/>
          <p:nvPr/>
        </p:nvGraphicFramePr>
        <p:xfrm>
          <a:off x="1928880" y="4071960"/>
          <a:ext cx="207180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071960"/>
                    <a:ext cx="20718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5929200" y="3214800"/>
          <a:ext cx="231624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3214800"/>
                    <a:ext cx="2316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785880" y="5500800"/>
          <a:ext cx="22510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5500800"/>
                    <a:ext cx="225108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3786120" y="5500800"/>
          <a:ext cx="236844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6120" y="5500800"/>
                    <a:ext cx="23684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Exercise 3A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1(a)(e)(i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2(a)(b)(c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1:33:27Z</dcterms:created>
  <dc:creator>08843474</dc:creator>
  <dc:description/>
  <dc:language>en-US</dc:language>
  <cp:lastModifiedBy>08843474</cp:lastModifiedBy>
  <dcterms:modified xsi:type="dcterms:W3CDTF">2011-03-03T23:50:12Z</dcterms:modified>
  <cp:revision>4</cp:revision>
  <dc:subject/>
  <dc:title>Introduction to Regression</dc:title>
</cp:coreProperties>
</file>